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192A-40A5-475C-A93D-ED52B646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21E1-BF13-4ACC-B184-D2B08873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6CC7-5667-447E-9D53-4BCC8804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4FFD-2892-4107-8364-BB86EC82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F899-D25C-4317-BE1F-ACF2EFCB8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30E2-1EAA-414A-81CC-4471BF42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20D2-893C-4799-BA92-C976546B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EBC5-04A9-4A52-B470-8D681EAA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A29E-7D0A-4FE3-9522-CFE474DA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A4641-F2D4-4274-8065-067CBF37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6FB0-1866-4EE3-903C-72DB789D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EC50-98A9-4AF7-80B5-4607885B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8CCC-2A2D-4131-8E03-0C1F864A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35F4-34C0-4906-9A21-125DAACE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DBB1-B322-40E1-A8AD-F8BFA35B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5E26-092D-4263-A3F2-6FEFD561A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D449-D189-4479-8BC1-361D092C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2BAD00-41AD-496D-9EFE-0E487EED969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464152-615A-48AF-B117-8162A68D96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F41035-A0ED-4D5A-A5FD-27752FC2B4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B1C2AD-6E55-4AA6-A802-6B8F61161B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0B8CAC-5A12-4885-918F-D44930D794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DB12-7912-4B40-921B-5C6ACC70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ED7567-F54B-48DB-BBB2-1B357D935E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D8AE88-5A41-4EE9-B439-B14168703C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5ACE85-845B-4158-88A3-D682B791EB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8EA64D-5D45-40E5-AF14-82F2BAD53D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DDBE37-0E0D-47EB-8253-165A66E71F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A4D5BA-E763-4152-ACA9-A4E8FAA4EF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0A518D-90EA-442E-B724-B50921A32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29AC-9937-402E-92FA-DB32A406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1F54-4C15-46B4-9FEE-CDE6AAB6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609B-F4C5-4D4E-8D68-D5AE1921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53A9-A260-41EE-BC69-F305F8EF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25EF-4D97-4D6D-B042-F7C6ECC0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5817-1C57-4310-A429-DDFAAF57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307C-C5F8-4C76-B79B-A8EAACEA7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DF46-85E7-44D2-87E9-95B5ADC83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7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3B98-94F0-48D1-8FCD-8ABC271109B2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2860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0066"/>
                </a:solidFill>
                <a:latin typeface="Tahoma"/>
              </a:rPr>
              <a:t>ФИЗИКАЛНА ТЕРАПИЈА НАКОН УГРАДЊЕ ЕНДОПРОТЕЗЕ  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660066"/>
                </a:solidFill>
                <a:latin typeface="Tahoma"/>
              </a:rPr>
              <a:t> ФИЗИКАЛНА ТЕРАПИЈА НАКОН ОПЕКОТИН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09" name="TextBox 1"/>
          <p:cNvGrpSpPr/>
          <p:nvPr/>
        </p:nvGrpSpPr>
        <p:grpSpPr>
          <a:xfrm>
            <a:off x="1712880" y="407880"/>
            <a:ext cx="6437520" cy="841320"/>
            <a:chOff x="1712880" y="407880"/>
            <a:chExt cx="6437520" cy="841320"/>
          </a:xfrm>
        </p:grpSpPr>
        <p:pic>
          <p:nvPicPr>
            <p:cNvPr id="310" name="TextBox 1" descr=""/>
            <p:cNvPicPr/>
            <p:nvPr/>
          </p:nvPicPr>
          <p:blipFill>
            <a:blip r:embed="rId1"/>
            <a:stretch/>
          </p:blipFill>
          <p:spPr>
            <a:xfrm>
              <a:off x="1712880" y="407880"/>
              <a:ext cx="6437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828800" y="457200"/>
              <a:ext cx="62658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Универзитет у Кр</a:t>
              </a: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a</a:t>
              </a: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гујевцу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900" spc="-1" strike="noStrike">
                  <a:solidFill>
                    <a:srgbClr val="40458c"/>
                  </a:solidFill>
                  <a:latin typeface="Tahoma"/>
                </a:rPr>
                <a:t>ФАКУЛТЕТ МЕДИЦИНСКИХ НАУКА</a:t>
              </a:r>
              <a:endParaRPr b="0" lang="en-US" sz="19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312" name="Picture 10" descr=""/>
          <p:cNvPicPr/>
          <p:nvPr/>
        </p:nvPicPr>
        <p:blipFill>
          <a:blip r:embed="rId2"/>
          <a:stretch/>
        </p:blipFill>
        <p:spPr>
          <a:xfrm>
            <a:off x="990720" y="222120"/>
            <a:ext cx="761760" cy="103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Подела ендопротез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ема начину фиксације деле се 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1. цемент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2. бесцемент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3. хибридн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цементно фиксирана феморална компонента и безцементно фиксирана ацетабуларна компонетн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Цементна фиксација се обично примењује код старих људи (лош квалитет костију) јер имају већу шансу за прелом кости приликом уградње протез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3175-7469-4701-A986-BFBF0DF99FD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Подела ендопротез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. Бесцеметне</a:t>
            </a:r>
            <a:r>
              <a:rPr b="1" lang="sr-Latn-C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ендопротез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е уграђују млађим пацијентима (са добрим квалитетом кости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мају храпав и порозан  контакт између ендопротезе и лежишта, фиксира се урастањем коштаног ткива на површину ендопротезе. Обично дуже трају од цементних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. Цементне ендопротезе-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арији пацијенти (лош квалитет костију, ОП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већи недостатак цементних ендопротеза је оштећење лежишта након дугог низа година коришћењ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89F3-CA7B-4A18-8DC6-CC76DEED8B9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Подела ендопротез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Хибридне ендопротез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 код ових ендопротеза једна компонента (обично феморална) се фиксира помоћу коштаног цемента, а друга (обично ацетабуларна) се фиксира бесцементно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вај тип фиксације се најчешће примењује код младих и физички активнијих пацијената (мањи је губитак кости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A0F0-91A6-4C24-8E9A-479D7305DEB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Ендопротезе ку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76212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сечно време трајања ендопротезе је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око 15 год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одинама поједини делови ендопротезе могу да се разлабаве (што код пацијента проузрокује болове при кретању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акође долази до трошења материјала и неправилног оптерећења зглоб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ко дође до разлабављења индиковано је поновно оперативно лечење (нестабилна компонента се замени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аветује се 1х годишње контролни преглед ортопеда са  РТГ карлице са оба ку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52E9-4ABA-409E-B5AD-058ABD5829E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ИНДИКАЦИЈ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499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НЕТРАУМАТОЛОШКИ УЗРОЦ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7040" indent="-425160"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Билатерално дегенеративно измењени кукови где је потребно бар један кук оспособити за кретањ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7040" indent="-425160"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Коксартроза као последица конгениталне дисплазиј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7040" indent="-425160"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Бенигни тумор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7040" indent="-425160"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Системске реуматске болести (ра,сле,спондилоартропатије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2.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ТРАУМАТОЛОШКИ УЗРОЦ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7040" indent="-425160"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Тежа трауматска оштећења ацетабулум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7040" indent="-425160"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Свеже субкапиталне и трансцервикалне фрактуре врата фемур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7040" indent="-425160"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Лоше срасле фрактуре врата фемур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7040" indent="-425160"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Псеудоартрозе врата фемур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97040" indent="-425160"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Неуспешни претходни оп захват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516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Čuvar mesta za broj slajda 1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04C8-16F4-413E-ADEE-F26C3D13B3A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ОНТРАИНДИК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en-US" sz="2000" spc="-1" strike="noStrike" u="sng">
                <a:solidFill>
                  <a:srgbClr val="40458c"/>
                </a:solidFill>
                <a:uFillTx/>
                <a:latin typeface="Tahoma"/>
              </a:rPr>
              <a:t>Једина апсолутна контраиндикација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је 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септички артритис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 Активна инфекција (локална, системска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 недавни ИМ, нестабилна ангина, срчани застој или тешка анемија, скорашња тромбоемболиј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скелетна незрелост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параплегија, квадриплегиј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Релативне контраиндикације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неуропатски (Шаркотов зглоб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немогућност кретања (која није везана за поремеђај кука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одсутност абдукторних мишића кук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прогресивни неуролошки губитак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-морбидна гојазност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buSzPct val="1131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07F1-AC7D-4050-9D3B-653151EB70B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Физиотерапеутска функционална процен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380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Дужина</a:t>
            </a: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доњих</a:t>
            </a: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екстремитет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Обим</a:t>
            </a: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окрета</a:t>
            </a: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зглобовима</a:t>
            </a: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Д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Обим</a:t>
            </a: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екстремитет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ММ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Бол</a:t>
            </a: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ВАС</a:t>
            </a:r>
            <a:r>
              <a:rPr b="0" lang="en-AU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скала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Трансфер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роцен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држањ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роцен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ход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Укупан резултат рехабилитације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(успешан, задовољавајући, неуспешан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421E-E1CC-41D1-B619-2323809F2AA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ункционално оспособљавањ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води до 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смањења или нестанка бо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постизања оптималне функционалне амплитуде покрета оперисаног ку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јачање пелвифеморалне мускулатур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коректан хо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B76D-2307-4233-BE10-2648B180864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ПРЕОПЕРАТИВНИ РЕХАБИЛИТАЦИОНИ ТРЕТМАН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Вежбе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дисањ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499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Вежбе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јачањ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мускулатуре: вежбе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з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јачање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мишић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горњих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екстремитет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трупа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започињање кхт програма преоперативно значајно умањује утицај постопертивне имобилизације на мишићну слабост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Вежбе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з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овећање обим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покрет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куковим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Увежбавање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ход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с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штакам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Едукациј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о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могућим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компликацијама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како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их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спречити</a:t>
            </a:r>
            <a:r>
              <a:rPr b="0" lang="sr-Latn-C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C49D-D6E2-4826-AE7D-1A7AC3CD381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Постоперативна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15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ЕЛЕКТРОТЕРАПИЈА( ИФС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83480" indent="-483480">
              <a:lnSpc>
                <a:spcPct val="15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ИМП (НИСКОФРЕКВ. И ВИСОКОФРЕКВ.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83480" indent="-483480">
              <a:lnSpc>
                <a:spcPct val="15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УЗ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83480" indent="-483480">
              <a:lnSpc>
                <a:spcPct val="15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ТЕРМОТЕРАПИЈА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83480" indent="-483480">
              <a:lnSpc>
                <a:spcPct val="15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БИОСТИМУЛАТИВНИ  ЛАСЕР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83480" indent="-483480">
              <a:lnSpc>
                <a:spcPct val="15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КИНЕЗИТЕРАПИЈ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83480" indent="-4834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CE5B-F9AF-47F0-923C-FDB9A681056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1" lang="sr-Latn-CS" sz="2400" spc="-1" strike="noStrike">
                <a:solidFill>
                  <a:srgbClr val="660066"/>
                </a:solidFill>
                <a:latin typeface="Tahoma"/>
              </a:rPr>
              <a:t>. </a:t>
            </a:r>
            <a:r>
              <a:rPr b="1" lang="fr-FR" sz="2400" spc="-1" strike="noStrike">
                <a:solidFill>
                  <a:srgbClr val="660066"/>
                </a:solidFill>
                <a:latin typeface="Tahoma"/>
              </a:rPr>
              <a:t>ФИЗИКАЛНА ТЕРАПИЈА НАКОН 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УГРАДЊЕ ЕНДОПРОТЕЗА</a:t>
            </a:r>
            <a:r>
              <a:rPr b="1" lang="fr-FR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И ОПЕКОТИНА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377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ТЕМАТСКЕ ЦЕЛИН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Физикална терапија након уградње ендопротезе ку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Физикална терапија након уградње ендопротезе колен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Физикална терапија након уградње ендопротезе рамен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Физикална терапија након опекотин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CCCF-8773-4000-83E7-C2828B66F9F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инезитерапија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одржава и повећава покретљивост оп ку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одржава и повећава мишићну масу  натколенице и ноге у целин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обука правилној употреби помагала за хо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обука и аутоматизација стајања и хода, као и одржавање и промена основних положаја и активн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спречавање сек.дефицита , деловање ктх на бол, релаксацију, општу кондицију, издрживост, координаци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1FDD-E904-4305-BF7D-76B1AB85275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инезитерапија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. дан по о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статичке контрак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активно-потпомогнуте вежб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3 дана опер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ртикализаија, почиње тротактним ходом у у помоћ две пп штаке, уз тач ослонац на оп ног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-8 недеља се носе шта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кон тога 1 пп штака на контралатералној стран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 првог дана- абдукциони јастук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сајне вежб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     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 за циркулациј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B464-8C44-47AF-BEA9-830909E577E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</a:rPr>
              <a:t>У првих 6 недеља забрањен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Флексија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 куку преко 90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800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Адукциј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кука преко средње линије те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800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зражена спољашња и унутрашња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ротациј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ку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800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ктивна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абдукциј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(због слабости и ресекције абдуктора кука или великог трохантера па је потребно време до њиховог реституисањ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C0C1-2DEA-45E8-B1B1-096232DAA1F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660066"/>
                </a:solidFill>
                <a:latin typeface="Tahoma"/>
              </a:rPr>
              <a:t>НИЈЕ ДОЗВОЉЕНО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 Narrow"/>
              </a:rPr>
              <a:t>седење са прекрстеним ногама                 целог живо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 Narrow"/>
              </a:rPr>
              <a:t>седење на ниској столици и чучање         целог живо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 Narrow"/>
              </a:rPr>
              <a:t>нагло окретање и стајање на оперисаној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 Narrow"/>
              </a:rPr>
              <a:t>  </a:t>
            </a:r>
            <a:r>
              <a:rPr b="0" lang="ru-RU" sz="2400" spc="-1" strike="noStrike">
                <a:solidFill>
                  <a:srgbClr val="40458c"/>
                </a:solidFill>
                <a:latin typeface="Arial Narrow"/>
              </a:rPr>
              <a:t>нози или нагло пребацивање тежине       целог живо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 Narrow"/>
              </a:rPr>
              <a:t>лежање на оперисаном кук                        3 месец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 Narrow"/>
              </a:rPr>
              <a:t>купање у кади                                              3 месец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 Narrow"/>
              </a:rPr>
              <a:t>сечење ноктију на ногама                          3 месец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 Narrow"/>
              </a:rPr>
              <a:t>приближавање оперисане ноге здравој    3 месец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D2F6-A87B-4B4D-B40F-20DAA5A0F6E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Хидротерапија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56400" indent="-356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мичко и механичко дејство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6400" indent="-356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ода по Архимедовом закону смањује тежину тела, тако да се лакђе изводе вежб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6400" indent="-356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мпература воде смањује спазам мишића и поправља циркулациј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6400" indent="-356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д ослабљених мишића већа ефикасност у извођењу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6400" indent="-356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зитивно психолошко делов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6400" indent="-356400">
              <a:spcBef>
                <a:spcPts val="45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жбе се изводе у :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терапеутским базенима и Хабардовим кадама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56400" indent="-356400">
              <a:spcBef>
                <a:spcPts val="451"/>
              </a:spcBef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CB86-3DCA-4978-BC4B-E039F625FD9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Правила за време боравка  у болници и кућ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1.  Ципел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морају бити равне и чврсте</a:t>
            </a:r>
            <a:r>
              <a:rPr b="0" lang="sr-Latn-RS" sz="2000" spc="-1" strike="noStrike">
                <a:solidFill>
                  <a:srgbClr val="40458c"/>
                </a:solidFill>
                <a:latin typeface="Tahoma"/>
              </a:rPr>
              <a:t>; 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к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ористити дугачку кашику за обување ципел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2. 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Првих 12 недеља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пацијент се окреће само на здраву страну и при томе користи јастук између ногу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just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Ноге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не прекрштати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једну преко друге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just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Не правити екстремне покрете у правцу спољашње и унутрашње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ротациј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just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Флексија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у куку никада преко 90 степени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just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Избегавати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седење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на ниским столицама, фотељама и клупам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just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Самостална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вожња аутомобила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тек после три месец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just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Бицикл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возити тек у договору са лекаром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just">
              <a:spcBef>
                <a:spcPts val="1199"/>
              </a:spcBef>
              <a:buClr>
                <a:srgbClr val="6f89f7"/>
              </a:buClr>
              <a:buSzPct val="11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Избегавати </a:t>
            </a:r>
            <a:r>
              <a:rPr b="1" lang="ru-RU" sz="2000" spc="-1" strike="noStrike">
                <a:solidFill>
                  <a:srgbClr val="40458c"/>
                </a:solidFill>
                <a:latin typeface="Tahoma"/>
              </a:rPr>
              <a:t>ношење већих терет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B46A-1B87-407C-BE79-5D6B4472BA9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Компликације тоталне ендопротезе кук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838080" y="14475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ПОСТОПЕРАТИВНЕ ИНФЕК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ПОВРЕДА ПЕРИФЕНИХ НЕРАВА (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n.ischiadicus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45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3.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РОМБОЕМБОЛИЈЕ 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(узрок више од 50% постоп морталитета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ПРЕЛОМИ БУТНЕ К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НЕУРОВАСКУЛАРНЕ КОМПЛИК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 ЛУКСАЦИЈА ЕНДОПРОТЕЗ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7. ПЕРИАРТИКУЛАРНЕ КАЛЦИФИКАЦИЈЕ ИЛИ ЕКТОПИЧНЕ ОСИФИК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. РАСКЛИМАВАЊЕ ИЛИ ЛАБАВЉЕЊЕ ЕНДОПРОТЕЗ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168A-0AF2-478C-BCBF-48C3788FE17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НЕУРОВАСКУЛАРНЕ КОМПЛИКАЦИЈЕ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штеђења кс и нерав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чешће :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n.femoralis, n.ischiadicus, n.peroneus, n.obturatorius, n.cutaneus femoris lateral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уролошке комоликације се лече према принципима лечења ПМН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1. терм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2. електротерапија (ЕС, ИФС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3. кинезитерапија (према ММТ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импулсно магнетно пољ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4FC6-B074-4147-9AFA-641552F72FD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ТРОМБОЕМБОЛИЈСКЕ КОМПЛИКАЦИЈЕ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1.Тромбоза дубоких вена Д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е најчешће 4-7  постоп да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и: бол у нози, повишена лок.температура, повећање обима екстремите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2. Емболија плућ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Превенц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1. медикаментозн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2. елевација ДЕ (под углом 30⁰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3. еластични завоји за Д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4. ктх- активне контракције мишић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5. рана мобилизација и вертикализација пацијент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6. ЕС мишића потколенице модулисаним имп.једносмерним струјам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D8B1-8C09-45CD-B662-F80A1CBED9A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Луксације ендопротез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ране луксациј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прве 3 недеље, због лабавости везивног ткива око зглоб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касне луксације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након 3-5 недеља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Превенција 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избегавати забрањене покрет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јачање ослабљене пелвифеморалне мускулатур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Терап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репозиција и гипс имобилизација 4-6 недељ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кон тога: ктх, ИФС, ИМП, ниске дозе УЗ (0,2-0,8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W/cm²)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асеротерап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B399-88C6-44B6-8692-91D79AE5031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1a1d3c"/>
                </a:solidFill>
                <a:latin typeface="Tahoma"/>
              </a:rPr>
              <a:t>Артропласти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1a1d3c"/>
                </a:solidFill>
                <a:latin typeface="Tahoma"/>
              </a:rPr>
              <a:t>Хируршки захват којим се формира зглоб који </a:t>
            </a:r>
            <a:r>
              <a:rPr b="1" lang="sr-RS" sz="2400" spc="-1" strike="noStrike" u="sng">
                <a:solidFill>
                  <a:srgbClr val="1a1d3c"/>
                </a:solidFill>
                <a:uFillTx/>
                <a:latin typeface="Tahoma"/>
              </a:rPr>
              <a:t>функционално и морфолошки </a:t>
            </a:r>
            <a:r>
              <a:rPr b="1" lang="sr-RS" sz="2400" spc="-1" strike="noStrike">
                <a:solidFill>
                  <a:srgbClr val="1a1d3c"/>
                </a:solidFill>
                <a:latin typeface="Tahoma"/>
              </a:rPr>
              <a:t>одговара нормалном зглобу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Доводи до поновног успостављања безболне покретљивости зглоба уз очување његове стабилно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1a1d3c"/>
                </a:solidFill>
                <a:latin typeface="Tahoma"/>
              </a:rPr>
              <a:t>Ендопротезе</a:t>
            </a:r>
            <a:r>
              <a:rPr b="0" lang="sr-RS" sz="2400" spc="-1" strike="noStrike">
                <a:solidFill>
                  <a:srgbClr val="1a1d3c"/>
                </a:solidFill>
                <a:latin typeface="Tahoma"/>
              </a:rPr>
              <a:t> су зглобови који се уграђују у тело уместо патолошки промењених или уништених зглобо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1199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Čuvar mesta za broj slajda 1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085F-753F-4255-8FE9-B1E421DEBFD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Луксација ендопротез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8580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Фактори ризика за луксирање ендопротезе с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. лоше позиционирње компоненти ендопротез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. постериорни хируршки присту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. претходне операције те рег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. слабост певифеморалне мускулатуре (абдукор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5. несарадња са пацијентом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(непоштовање забрањених покрета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499"/>
              </a:spcBef>
              <a:buSzPct val="1131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F86D-A304-4D52-8C95-11617075A76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ПЕРИАРТИКУЛАРНЕ КАЛЦИФИКАЦИЈЕ ИЛИ ЕКТОПИЧНЕ ОСИФИКАЦИЈЕ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ериартикуларне калцификације и ектопичне осификације су релативно честа компликација код болесника са уграђеном ендопротезом ку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126E-5182-4AD0-ACE7-78FA5FE25FC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РАСКЛИМАВАЊЕ ИЛИ ЛАБАВЉЕЊЕ ЕНДОПРОТЕЗЕ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Главна касна комплик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5752-7F9F-4FE0-B550-F4563518F0D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РАСКЛИМАВАЊЕ ИЛИ ЛАБАВЉЕЊЕ ЕНДОПРОТЕЗЕ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8377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редозираност ктх може да доведе до разлабављења; или прекомерно оптерећење и превелика активност пацијен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Превенциј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1. контола Т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2. смањење физичког оптереће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Водити рачуна о АД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Дг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1-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БОЛ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у оп куку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2. РТГ дијагности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3. сцинтиграф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Тх: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хируршка; до тада физикална (ИФС,ИМП,ласертх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63E1-1F29-4F4A-A40B-860ADE4A143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ПРОЦЕНА ФУНКЦИОНАЛНОСТ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ступни тестов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Oxford Hip Score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The McMaster Toronto Arthritis Patient Preference Disability Questionnaire (MACTAR)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Japanese Orthopedic Score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The SF-36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Merle d’Aubigné and Postel Score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 The Western Ontario and McMaster Universities Arthritis Index (WOMAC)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7. Harris Hip Sco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8. Short Physical Performance Battery (SPPB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BFEF-2540-4F7A-AF4D-2CFC17113A6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880" y="403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</a:rPr>
              <a:t>ЕНДОПРОТЕЗА К</a:t>
            </a:r>
            <a:r>
              <a:rPr b="1" lang="sr-Latn-CS" sz="4800" spc="-1" strike="noStrike">
                <a:solidFill>
                  <a:srgbClr val="0070c0"/>
                </a:solidFill>
                <a:latin typeface="Tahoma"/>
              </a:rPr>
              <a:t>O</a:t>
            </a:r>
            <a:r>
              <a:rPr b="1" lang="sr-RS" sz="4800" spc="-1" strike="noStrike">
                <a:solidFill>
                  <a:srgbClr val="0070c0"/>
                </a:solidFill>
                <a:latin typeface="Tahoma"/>
              </a:rPr>
              <a:t>ЛЕНА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660066"/>
                </a:solidFill>
                <a:latin typeface="Tahoma"/>
              </a:rPr>
              <a:t>КОЛЕНИ ЗГЛОБ</a:t>
            </a:r>
            <a:br>
              <a:rPr sz="3600"/>
            </a:br>
            <a:r>
              <a:rPr b="0" lang="vi-VN" sz="3600" spc="-1" strike="noStrike">
                <a:solidFill>
                  <a:srgbClr val="660066"/>
                </a:solidFill>
                <a:latin typeface="Tahoma"/>
              </a:rPr>
              <a:t> articulatio genu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Најсложенији зглоб у људском тел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Чине га: 1.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  <a:ea typeface="Tahoma"/>
              </a:rPr>
              <a:t> art. femorotibialis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             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2. 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  <a:ea typeface="Tahoma"/>
              </a:rPr>
              <a:t>art. femoropatellar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   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ател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је највећа сезмоидна кост у људском телу, служи као ослонац за 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m.quadriceps  који је главни активни стабилизатор коленог зглоб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A665-4DCE-4E6A-82FF-C824C7A936E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Колени зглоб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Са механичког аспекта  зглоб колен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спада у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једноосовинске зглобов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са великом амплитудом покрета у сагиталној равн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У састав зглоба улазе три кост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 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ahoma"/>
              </a:rPr>
              <a:t>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фемур са својом доњом епифизом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ahoma"/>
              </a:rPr>
              <a:t> 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тибија са горњом епифиз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  <a:ea typeface="Tahoma"/>
              </a:rPr>
              <a:t>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ате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ahoma"/>
              </a:rPr>
              <a:t>Зглобна капсула окружује коштане   структуре   колена и веома је битна за стабилност неоптерећеног коле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7B15-B151-4BAA-8346-F4F35ABD585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ЕНДОПРОТЕЗА КОЛЕНОГ ЗГЛОБ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356400" indent="-3564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Хирушка потпуна или делимична замена зглобног дела коленог зглоб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6400" indent="-356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  <a:ea typeface="Tahoma"/>
              </a:rPr>
              <a:t>Индикациј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6400" indent="-356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Дегенеративна болест коленог зглоб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6400" indent="-356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Дефомите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6400" indent="-356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Реуматоидни артрити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6400" indent="-356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соријазни артрити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6400" indent="-356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ahoma"/>
              </a:rPr>
              <a:t>Т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раум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ahoma"/>
              </a:rPr>
              <a:t> – повреде колен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6400" indent="-356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ahoma"/>
              </a:rPr>
              <a:t>Т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умор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ahoma"/>
              </a:rPr>
              <a:t>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6400" indent="-35640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8D56-A459-421D-A25A-E34260CABCD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ОНТРАИНДИКАЦ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ериферна васкуларна боле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Остеомијелити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Локална инфек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овреда кож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Узнапредовала остеопороз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2B3B-8FC0-40A3-83EC-1570E6FB717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6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Tahoma"/>
              </a:rPr>
              <a:t>ЕНДОПРОТЕЗА КУКА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AutoShape 2"/>
          <p:cNvSpPr/>
          <p:nvPr/>
        </p:nvSpPr>
        <p:spPr>
          <a:xfrm>
            <a:off x="18720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  <a:ea typeface="Tahoma"/>
              </a:rPr>
              <a:t>ПОДЕЛА ЕНДОПРОТЕЗА КОЛЕ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8377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рема начину фиксациј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1.цемент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2. бесцемент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Код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цементних фиксациј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се врши путем коштаног цемента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ahoma"/>
              </a:rPr>
              <a:t>(полиметилметакрилат) који ствара чврсти слој између кости и површине ендопротез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Бесцементе протез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имају површину сличну кости (порозну)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  <a:ea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Фиксација је динамичка јер врши стално ремоделирање коштаном изградњом услед оптерећењем насталих микрофрактур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37B4-4B56-4061-A103-78D62DCDFF9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Парцијалне ендопротезе коле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02120" indent="-402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Мења се или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феморотибијални зглоб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(чешће) или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ателофеморалн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.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Код феморотибијалног вештачког зглоба обе компоненте су израђене од метала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  <a:ea typeface="Tahoma"/>
              </a:rPr>
              <a:t>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легуре кобалта и хрома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  <a:ea typeface="Tahoma"/>
              </a:rPr>
              <a:t>),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између којих се налази полиетиленски уметак.</a:t>
            </a:r>
            <a:r>
              <a:rPr b="0" lang="vi-VN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Индикациони подручје за парцијалне ендопротезе колена је знатно уж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2120" indent="-40212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07B0-6D05-42EE-ABEB-20C5121FF95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  <a:ea typeface="Tahoma"/>
              </a:rPr>
              <a:t>Парцијалне ендопротезе коле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  <a:ea typeface="Tahoma"/>
              </a:rPr>
              <a:t>Парцијалне ендопротезе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  <a:ea typeface="Tahoma"/>
              </a:rPr>
              <a:t>се уграђују уколико је оштећен само спољашњи или унутрашњи део зглоба, али су остали делови зглоба, првенствено хрскавица, очуван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E5BF-4845-4BF4-BDCD-0CE13F3F241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  <a:ea typeface="Tahoma"/>
              </a:rPr>
              <a:t>Парцијалне ендопротезе коле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609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редности уградње парцијалне ендопротез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с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ahoma"/>
              </a:rPr>
              <a:t>мали оперативни рез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ahoma"/>
              </a:rPr>
              <a:t>мањи губитак крви,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ahoma"/>
              </a:rPr>
              <a:t>мања могућност настанка инфекције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ahoma"/>
              </a:rPr>
              <a:t>мање постоперативне тегобе и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ahoma"/>
              </a:rPr>
              <a:t>3 х краћа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ahoma"/>
              </a:rPr>
              <a:t> 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  <a:ea typeface="Tahoma"/>
              </a:rPr>
              <a:t>рехабилитација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4947-C999-420D-BF9D-34EB76F53FB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Тоталне ендопротезе коле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Долази до замене целог зглоб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Могу бити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бесцементне и цемент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  <a:ea typeface="Tahoma"/>
              </a:rPr>
              <a:t>Феморални део протез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је грађен од метала (легуре кобалта  и хрома)који се уграђују на кондиле. </a:t>
            </a: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  <a:ea typeface="Tahoma"/>
              </a:rPr>
              <a:t>Тибијани део ендопротез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је грађен од метала (најчешће титанијума или легуре кобалта и хрома) док је уложак грађен од полиетиленске пластик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5800" indent="-41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1A5B-F97D-4B2C-B47A-568A2F0DD1B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омпликације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За време операције након операције (ране и касне постоперативне компликације)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инфек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дубоке венске тромбоз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ерипротетски прелом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асептично разлабавље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нестабилност коленог зглоб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ареза перонеалног нер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361A-5642-4430-8BC2-68E0A9FACDF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Индикције за ендопротезу коле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код болесника са јаким боловим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са ограниченом покретљивошћу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лошим квалитетом живот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са узнапредовалом артрозом коленог зглоб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32E7-5610-4705-886A-1ABE560649F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Ендопротеза колен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ahoma"/>
              </a:rPr>
              <a:t>Трајање ендопротеза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колена је ограничено због трошења материјал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ahoma"/>
              </a:rPr>
              <a:t>Износи око 15 годин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Код истрошене ендопротезе јавља се нес</a:t>
            </a:r>
            <a:r>
              <a:rPr b="0" lang="ru-RU" sz="2800" spc="-1" strike="noStrike">
                <a:solidFill>
                  <a:srgbClr val="40458c"/>
                </a:solidFill>
                <a:latin typeface="Tahoma"/>
                <a:ea typeface="Tahoma"/>
              </a:rPr>
              <a:t>табилнос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F9D2-23A9-4101-BB8D-26BDFF518B6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Рехабилитација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Циљ је што бржи повратак функције замењеног зглоба и побољшање квалитета живот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  <a:ea typeface="Tahoma"/>
              </a:rPr>
              <a:t>Што бржи повратак свакодневним активностима и повратак радним обавезам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752A-7382-4B4A-BB18-3B7865C3FF8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Рехабилитација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  <a:ea typeface="Tahoma"/>
              </a:rPr>
              <a:t>Преоперативна рехабилит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  <a:ea typeface="Tahoma"/>
              </a:rPr>
              <a:t>Постоперативна рехабилит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реоперативна рехабилитација проводи се најчешће кроз поступк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аеробних вежби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кардио-респираторног тренинга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јачања мишића ГЕ и Д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Едукација пацијен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F5FC-BABA-4E1D-91BD-1B943B59B89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Зглоб кука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articulatio coxae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глобне компоненте чин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цетабулум (acetabulum) карличне кости (os coxae) и бутна кост (os femoris)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глобни делови с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facies lunata acetabuli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caput ossis femor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ма велики обим покрета (други са највећом амплитудом покрета, после раменог зглоба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Главни задатак је потпора целој тежини тела током статичких (стајање) и динамичких оптерећења (ходање) као и одржавање равнотеж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924B-4819-4DAD-85BE-35D96039930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58c"/>
                </a:solidFill>
                <a:latin typeface="Tahoma"/>
                <a:ea typeface="Tahoma"/>
              </a:rPr>
              <a:t>ЕВАЛУАЦИЈА  ФУНКЦИЈА  ЛОКОМОТОРНОГ  АПАРАТ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Мерење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покретљивости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зглоб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Мерење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обима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екстрем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Мерење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дужине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екстремит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Испитивање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функције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мишића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мануелним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мишићним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тестом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  <a:ea typeface="Tahoma"/>
              </a:rPr>
              <a:t> (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ММТ</a:t>
            </a:r>
            <a:r>
              <a:rPr b="0" lang="en-AU" sz="2400" spc="-1" strike="noStrike">
                <a:solidFill>
                  <a:srgbClr val="40458c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Тестирање способности извођења активности дневнога живота (А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  <a:ea typeface="Tahoma"/>
              </a:rPr>
              <a:t>ДЖ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Анализа постуре тела (процена држањ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Tahoma"/>
              </a:rPr>
              <a:t>Анализа (процена) ход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0720" indent="-4507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7D8C-24AD-4C78-BE96-07327B55736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ПОСТОПЕРАТИВНА РЕХАБИЛИТАЦИЈ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8380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кон операције нога се ставља у ПЕНАСТУ ШИНУ у положају екстензије и елевациј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 algn="ctr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ДАНА након опер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лексија у колену се дозвољава до 45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кстензија до пуног оби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цијенту се дозвољава да седи на ивици крев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II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ДАН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цијент почиње да стоји поред крев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80000"/>
              </a:lnSpc>
              <a:spcBef>
                <a:spcPts val="451"/>
              </a:spcBef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451"/>
              </a:spcBef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414C-24B7-456E-9DC1-807D9FECE86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ПОСТОПЕРАТИВНА РЕХАБИЛИТАЦИЈ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III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ДА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звољава се ход са подпазушним штака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лексија до 90⁰ у пенастој шин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V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ДА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оже се користити масажа и термотерапијске процедур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кон 4. до 5. дана поставља се МОТОРИЧКА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ШИНА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ренинг јачања  мускулатуре  спроводи  се  по  престанку  запаљења  и болова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6A4B-5F11-4D95-9A3C-D18A0757C74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660066"/>
                </a:solidFill>
                <a:latin typeface="Tahoma"/>
              </a:rPr>
              <a:t>Рехабилитација</a:t>
            </a:r>
            <a:r>
              <a:rPr b="0" lang="sr-RS" sz="36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кон оп треба добити пуну екстензију и јачати мишиће  стабилизаторе. Најзначајније је јачање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m.quadriceps femoris-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 почетку се јача изометријским вежба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д физикалних агенаса се корист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кри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ИФС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ласер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ИМП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УЗ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КТХ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2850-A58E-4CDA-8452-658AF7829C2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Tahoma"/>
                <a:ea typeface="Tahoma"/>
              </a:rPr>
              <a:t>Болесници са протезом колена морају избегавати</a:t>
            </a:r>
            <a:r>
              <a:rPr b="0" lang="sr-Latn-CS" sz="3600" spc="-1" strike="noStrike">
                <a:solidFill>
                  <a:srgbClr val="660066"/>
                </a:solidFill>
                <a:latin typeface="Tahoma"/>
                <a:ea typeface="Tahoma"/>
              </a:rPr>
              <a:t>: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0458c"/>
                </a:solidFill>
                <a:latin typeface="Tahoma"/>
                <a:ea typeface="Tahoma"/>
              </a:rPr>
              <a:t>1.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  <a:ea typeface="Tahoma"/>
              </a:rPr>
              <a:t> скакање са било каквих висин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0458c"/>
                </a:solidFill>
                <a:latin typeface="Tahoma"/>
                <a:ea typeface="Tahoma"/>
              </a:rPr>
              <a:t>2.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  <a:ea typeface="Tahoma"/>
              </a:rPr>
              <a:t>клечање на оперисаном колену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0458c"/>
                </a:solidFill>
                <a:latin typeface="Tahoma"/>
                <a:ea typeface="Tahoma"/>
              </a:rPr>
              <a:t>3.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  <a:ea typeface="Tahoma"/>
              </a:rPr>
              <a:t>ношење тешких предмет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0458c"/>
                </a:solidFill>
                <a:latin typeface="Tahoma"/>
                <a:ea typeface="Tahoma"/>
              </a:rPr>
              <a:t>4.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  <a:ea typeface="Tahoma"/>
              </a:rPr>
              <a:t>ходање узбрдо и по клизавом тлу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40458c"/>
                </a:solidFill>
                <a:latin typeface="Tahoma"/>
                <a:ea typeface="Tahoma"/>
              </a:rPr>
              <a:t>5.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  <a:ea typeface="Tahoma"/>
              </a:rPr>
              <a:t>морају под контролом имати своју 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  <a:ea typeface="Tahoma"/>
              </a:rPr>
              <a:t>TT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  <a:ea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D4C3-A81E-418A-A4C7-1667C87B1A8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70c0"/>
                </a:solidFill>
                <a:latin typeface="Tahoma"/>
                <a:ea typeface="Times New Roman"/>
              </a:rPr>
              <a:t>ЕНДОПРОТЕЗА</a:t>
            </a:r>
            <a:r>
              <a:rPr b="1" lang="en-US" sz="4400" spc="-1" strike="noStrike">
                <a:solidFill>
                  <a:srgbClr val="0070c0"/>
                </a:solidFill>
                <a:latin typeface="Tahoma"/>
                <a:ea typeface="Times New Roman"/>
              </a:rPr>
              <a:t>  </a:t>
            </a:r>
            <a:r>
              <a:rPr b="1" lang="sr-RS" sz="4400" spc="-1" strike="noStrike">
                <a:solidFill>
                  <a:srgbClr val="0070c0"/>
                </a:solidFill>
                <a:latin typeface="Tahoma"/>
                <a:ea typeface="Times New Roman"/>
              </a:rPr>
              <a:t>РАМЕНОГ</a:t>
            </a:r>
            <a:r>
              <a:rPr b="1" lang="en-US" sz="4400" spc="-1" strike="noStrike">
                <a:solidFill>
                  <a:srgbClr val="0070c0"/>
                </a:solidFill>
                <a:latin typeface="Tahoma"/>
                <a:ea typeface="Times New Roman"/>
              </a:rPr>
              <a:t> </a:t>
            </a:r>
            <a:r>
              <a:rPr b="1" lang="sr-RS" sz="4400" spc="-1" strike="noStrike">
                <a:solidFill>
                  <a:srgbClr val="0070c0"/>
                </a:solidFill>
                <a:latin typeface="Tahoma"/>
                <a:ea typeface="Times New Roman"/>
              </a:rPr>
              <a:t>ЗГЛОБА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Рамени зглоб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 раменом зглобу узглобљују се велика, кугласта глава хумеруса (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caput humeri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), усмерена према горе, назад и унутра  мала, елипсоидна и плитка површин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капуле (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cavitas glenoidalis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) усмерена напред и латерално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Глава хумеруса је три пут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ећа од површине гленоид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504A-9D5F-49F7-8DC2-3C7966872AF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Индикације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9907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342720" indent="-342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опадање раменог зглоба због артрозе (остеоартритис)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реуматоидног артритис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оше санираног прелом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стенекрозе главе хумеруса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ртропатије као последица масивне руптуре ротаторне манжетн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2720" indent="-3427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кон кука и колена раме је трећи зглоб по учесталости уградње вештачког зглоб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81A9-6216-4063-A49D-9BC92998EB8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омпликације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еке од компликација које се могу појавити након уградње ендопротезе рамена су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 инфекциј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дислокациј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лабављење компоненте протезе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перипротетична хумерална и гленоидална фрактур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повреде нерава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6. ектопична осификац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5B49-34A7-4998-8881-3F42AF5C58C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Ендопротезе рамен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58c"/>
                </a:solidFill>
                <a:latin typeface="Tahoma"/>
              </a:rPr>
              <a:t>Протезе рамена можемо поделити у 3 групе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2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а. парцијалне протез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2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б. потпуне протезе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20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ц. обрнуте, реверзне протезе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C2CD-8D55-48C5-86B0-9158310389C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Ендопротеза ку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61760" y="17524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веће достигнуће у историји ортопедије –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градња тоталне ендопротезе кук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рва протеза је уграђена 1890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Један од најчешћих хирушких захвата у свет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рој уграђених расте из године у годин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перације трају све краћ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к трајања протезе је све дужи (све бољи материјали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ве краћа рехабилит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бољшана функционалност пацијена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C4BD-D549-4425-8952-C54650C1959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Парцијална ендопротеза раме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838080" y="16765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. Парцијална протеза рамена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хемиартропластика рамена), замењује се само горњи део (глава) хумеруса а део лопатице (гленоид) остаје непромењен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6DDE-E3E2-4F09-903A-9143004E6BA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Тотална ендопротеза рамен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иликом уградње потпуне протезе рамена уз мењање надлакатног дела кости мења се и гленоидални део лопатиц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елови протезе долазе у различитим величинама и могу бити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цементне и безцементне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FE8D-0B2F-4A11-93A2-FCD5B3A8ED4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Tahoma"/>
              </a:rPr>
              <a:t>Обрнута протеза рамен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837720" y="167652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брнута протеза рамена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ристи се након неуспеле уградње парцијалне или потпуне протезе рамена, као и код руптуре ротаторне манжете и нестабилности зглоб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8B69-D6A2-49AF-BC70-0F10DBD7B5C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Рехабилитација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виси од врсте уграђене протезе и стања раменог зглоба, првенствено мишића ротаторне маншетн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ле операције се добије ортоза која се састоји од рукава (слинг) и абдукцијског јастук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ртоза се носи четири недеље током којих пацијент скида ортозу и пасивно разгибава руку према упутствима од старне лекара и физиотерапеу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ктивно подизање руке почиње 6 недеље након операције а јачање мишића 2 месеца после ОП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тпуни опоравак може потрајати и до 1-2 годин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A722A-EB79-4B75-918A-4C054FB0E71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онтраиндиковани покрети у прве 3 недеље након ОП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1. Унутарња ротација надлактице с руком    постављеном иза леђ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2. Комбиновани покрети испред те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(унутарња ротација,флексија и адукциј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3. Хиперекстензија надлактиц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B7EA-D4D0-4A53-A189-903B943B5F9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Физикална терап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РИ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ЛЕКТРОТЕРАПИЈА( ИФС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МП (НИСКОФРЕКВ. И ВИСОКОФРЕКВ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З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РМОТЕРАПИЈ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ИОСТИМ. ЛАСЕ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ИНЕЗИ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4701-DA8A-44F6-B10E-721A253EA44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Рехабилитација 1-3 недеље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Ортоза за рам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Активна мобилизација шаке и подлактиц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ендуларне вежбе оперисане рук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зометријске вежбе стабилизатора лопатиц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зометријске вежбе јачања свих мишићних група (опрезније с унутарњим ротаторим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7438-A10A-4B18-8E31-9D540513545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Рехабилитација 1-3 недеље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сивна унутрашња рот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граничена спољашња ротација 20-так 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ктивно-потпомогнут покрет са прогресијом из лежећег у седећи положожај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24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ристити руку у оквиру АДЖ колико је могућ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3679-EF17-44C5-A59D-1E5EA124494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Рехабилитација 3-6 недељ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рогресија спољашње ротације до пуног оби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отпомогнута унутрашња рот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асивна флексија пуног обима (4 недељ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одстицати АКТИВНИ покрет у свим равнима</a:t>
            </a:r>
            <a:br>
              <a:rPr sz="2400"/>
            </a:b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(изнад нивоа рамена !!!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зометријске вежбе свих мишићних груп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рогресија изотоничких вежби покрет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9D03-036D-4F82-B65B-BE0021743E6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Рехабилитација након 6 недељ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АКТИВНИ покрет до анатомског </a:t>
            </a:r>
            <a:r>
              <a:rPr b="0" lang="sr-Latn-RS" sz="2400" spc="-1" strike="noStrike">
                <a:solidFill>
                  <a:srgbClr val="40458c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у свим равнина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Вежбе снаге додавањем оптереће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Већи број понављања вежби (издржљивост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Вежбе координ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кон завршене рехабилитације и повратку АДЖ, није дозвољено носити тежину већу од 3  </a:t>
            </a:r>
            <a:r>
              <a:rPr b="0" lang="sr-Latn-RS" sz="2400" spc="-1" strike="noStrike">
                <a:solidFill>
                  <a:srgbClr val="40458c"/>
                </a:solidFill>
                <a:latin typeface="Tahoma"/>
              </a:rPr>
              <a:t>kg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у оперисаној руци 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A9E0-17E1-4215-A157-E5A427F6E39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3808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Tahoma"/>
              </a:rPr>
              <a:t>ПАРЦИЈАЛНА ЕНДОПРОТЕЗ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Tahoma"/>
              </a:rPr>
              <a:t>ТОТАЛНА ЕНДОПРОТЕЗА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19DB-8118-479E-B62C-558F23C2034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70c0"/>
                </a:solidFill>
                <a:latin typeface="Tahoma"/>
              </a:rPr>
              <a:t>ФИЗИКАЛНА ТЕРАПИЈА НАКОН ОПЕКОТИН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Опекотин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стају услед дејства топлотне Е (сува или влажна топлота), електрична струја, радиоактивног зрачења или хемијских једињењ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7440" indent="-3974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оплота делује тако што доводи до денатурације протеина у ћелијама, које оштећује или уништав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0B5C-3FE6-4870-8F2E-EEC28ED8ACC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Tahoma"/>
              </a:rPr>
              <a:t>Опекотин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зависности од дубине оштећења коже и ткив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. први степен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–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combustio erythemato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2. други  степен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– combustio bulo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3. трећи степен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– combustio escharotic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4. четврти степен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арбониз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34EB-BB09-4FAF-963A-C6E193E7013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Опекотине</a:t>
            </a:r>
            <a:r>
              <a:rPr b="1" lang="sr-Latn-CS" sz="3600" spc="-1" strike="noStrike">
                <a:solidFill>
                  <a:srgbClr val="0070c0"/>
                </a:solidFill>
                <a:latin typeface="Tahoma"/>
              </a:rPr>
              <a:t> 1</a:t>
            </a: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.</a:t>
            </a:r>
            <a:r>
              <a:rPr b="1" lang="sr-Latn-CS" sz="3600" spc="-1" strike="noStrike">
                <a:solidFill>
                  <a:srgbClr val="0070c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степена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1. степен опекотин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клинички се карактерише постојањем еритема, едема коже и бола средњег интензите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 пр.опекотине настале сунчање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понтано пролази за 2-3 дан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FB82-3CEE-48D9-B71F-17E13009CAF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Опекотине  2. степена</a:t>
            </a: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11480" indent="-41148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. ПОВРШН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оштећен је само епидерм, еритем, пликови, (буле), различитих величина, испуњене бистром тешношћ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11480" indent="-41148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2.ДУБОК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: деструкција епидерма и површних слојева дерма. Интензиван бол, кожа је едематозна, покривена пликови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83A8-0253-489D-9351-29D3B499BD0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Опекотине 3. и 4.степен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3. степен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некроза целе дебљине коже, сви елементи су уништени. Кожа је сува, мрко пепељаста. Нема спонтане регенерације, неосетљивост на бол (уништени нервни завршеци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lnSpc>
                <a:spcPct val="20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4. степен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карактерише се карбонификацијом ткива у свим слојеви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BEAA-A897-439C-9162-C5B4EDB97DC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Рехабилитација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79440" indent="-379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пекотине доводе до настанка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онтрактур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Најпроблематични су лице, врат, аксила, ру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ahoma"/>
              </a:rPr>
              <a:t>Циљ рехабилитациј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је спречавање или максимално умањење последица контракције ожиљка и превенција настанка контрактур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 настанку опекотина код пацијената у критичном стању: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циљеви су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ксимално лимитирати губитак покретљивости, смањење едема и превенција контрактура кроз вежбе обима покрета, позиционирање и употреба ортоз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сивне вежбе се раде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2х дневн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уз опрез због бола!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9440" indent="-3794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имски рад и сарадња са пацијент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9CD1-5A49-405F-8D12-A2CA217FE41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Фазе рехабилитациј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акутној фази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е даје нагласак на превенциј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глобних контрактур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краћења миофасцијалног ткив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мпликација респираторног система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мањивању еде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субакутној фази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е циљеви односе 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ећање мишићног тонус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туралне адаптације као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ктивностима свакодневног живот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FC87-AFCF-4E16-B127-CA96CA9D8D3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Фазе рехабилитациј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Хронична фаз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је усмерена на смањивање последица ожиљног ткива, лечење последица оштећења неуролошког и локомоторног система, повратак пацијента друштвеном животу, породици и радној средин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Контраиндикације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за физикалну терапију су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оше оп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ште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стање болесник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сађивање коже (потребно 5-10 дана мировања)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вреда мишића или тетив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10F4-6699-438D-9C51-A36F1F2C293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Рехабилитација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7621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ПРИНЦИП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РАНА РЕХАБИЛИТ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ТИМСКИ РА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0070c0"/>
                </a:solidFill>
                <a:uFillTx/>
                <a:latin typeface="Tahoma"/>
              </a:rPr>
              <a:t>РАНИ ФИЗИКАЛНИ ТРЕТМАН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1. превенција плућних компликација дисајним вежбам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2. превенција тромбофлебита дубоких ве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3. превенција плућне ембол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4. превенција декуби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5. превенција контрактуре зглоб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6. превенција хипотрофије мишић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82EDB-3697-4D9A-90D8-EAC98D64E8A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ПАРЦИЈАЛНА ЕНДОПРОТЕЗА </a:t>
            </a:r>
            <a:br>
              <a:rPr sz="3200"/>
            </a:b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КУК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рушка интервенција којом се замењује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феморална компонент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глоба ку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дразумева уградњу феморалне протезе, без замене ацетабулане компоненте зглоб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Предност парцијалне над тоталном ендопротезом је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већа стаб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ност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2.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раће време трајања операције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3.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њи губитак крв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A41B-18C6-43E5-AC1D-13F875BF6A4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Рана рехабилитац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У рану рехабилитацију спад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. превенција контрактур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. превенција хипотрофија мишић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. превенција респираторних и циркулаторних компликација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4. превенција лимфедема 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5. превенција појаве декубитус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4B7B-B88A-4ED8-8AD8-F7FB261AC13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Рана рехабилитациј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проводи се на болничком одељењу на кревет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болесник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реба је започети што пре и дужина зависи од опекотин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Кинезиотерапиј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започиње у првих 24-48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h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, проводи се 2-4 х дневно као активне и активно-потпомогнуте вежбе свих захваћених зглобова и вежбе свих осталих делова тел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Хидрокинезит</a:t>
            </a:r>
            <a:r>
              <a:rPr b="1" lang="sr-Latn-CS" sz="2400" spc="-1" strike="noStrike">
                <a:solidFill>
                  <a:srgbClr val="40458c"/>
                </a:solidFill>
                <a:latin typeface="Tahoma"/>
              </a:rPr>
              <a:t>e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рапиј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започиње 5 дана након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рансплантације кож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3160" indent="-44316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5679-1D2E-47FF-9A44-090A2F8E0E8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Позиционирање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837720" y="16002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Захваћени зглоб се поставља у положај који ће касније обезбедити најбољу могућу функци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70c0"/>
                </a:solidFill>
                <a:uFillTx/>
                <a:latin typeface="Tahoma"/>
              </a:rPr>
              <a:t>Врат:</a:t>
            </a:r>
            <a:r>
              <a:rPr b="0" lang="sr-RS" sz="2400" spc="-1" strike="noStrike" u="sng">
                <a:solidFill>
                  <a:srgbClr val="0070c0"/>
                </a:solidFill>
                <a:uFillTx/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екстендиран, 180⁰ глава у односу на труп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Најчешће се користи 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T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омасова шина, ако ј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e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могуће да с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не угрози цирулација и дисање обезбедити известан степен компресије, тиме се спречава бујање везивног ткива и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стварање ожиљк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7400" indent="-3474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Удлаге се скидају током спровођења ктх, и тоалете током 6 месеци, након тога се носи ноћ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4695-48D7-4F5D-B160-B49FF25AD97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Позиционирањ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601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70c0"/>
                </a:solidFill>
                <a:uFillTx/>
                <a:latin typeface="Tahoma"/>
              </a:rPr>
              <a:t>Грудни кош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 рамена у ретракцији и екстенираним врат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70c0"/>
                </a:solidFill>
                <a:uFillTx/>
                <a:latin typeface="Tahoma"/>
              </a:rPr>
              <a:t>Аксила</a:t>
            </a:r>
            <a:r>
              <a:rPr b="0" lang="sr-RS" sz="2400" spc="-1" strike="noStrike" u="sng">
                <a:solidFill>
                  <a:srgbClr val="0070c0"/>
                </a:solidFill>
                <a:uFillTx/>
                <a:latin typeface="Tahoma"/>
              </a:rPr>
              <a:t>: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 надлактице у положај абдукциј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у раменом зглобу под углом од 90⁰ у односу на грудни кош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70c0"/>
                </a:solidFill>
                <a:uFillTx/>
                <a:latin typeface="Tahoma"/>
              </a:rPr>
              <a:t>Лакатни зглоб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 предња страна- лакат у лакој флексији, опекотине задње стране лакат у екстензији 180⁰ са елевацијом и супинациј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06800" indent="-406800">
              <a:spcBef>
                <a:spcPts val="601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070c0"/>
                </a:solidFill>
                <a:uFillTx/>
                <a:latin typeface="Tahoma"/>
              </a:rPr>
              <a:t>Ручни зглоб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: предња страна опекотине - екстензија 45⁰ уз елевацију, задња страна у умереној флексиј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6295-9B88-401F-BCAF-746F6C5F37A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Позиционирањ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601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Tahoma"/>
              </a:rPr>
              <a:t>Шака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дорзалне захваћености палац у максималној флексији у МЦП зглобовима, екстензиј у ИФ зглобовима. Опекотине на палмарној страни прсти у максималној екстензији и абдукциј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Tahoma"/>
              </a:rPr>
              <a:t>Кук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абдукција од 15⁰ и 180⁰ однос кука према осовини тел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Tahoma"/>
              </a:rPr>
              <a:t>Колен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 предња страна- флексија 15⁰ , задња страна екстензија 180⁰ уз елеваци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Tahoma"/>
              </a:rPr>
              <a:t>Скочни зглоб</a:t>
            </a: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топало у односу на потколеницу под углом 90⁰ уз елевациј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Tahoma"/>
              </a:rPr>
              <a:t>Стопало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:под правим углом у односу на потколеницу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BC02-ADCF-4F97-8045-CA1DAABD2F7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Кинезитерапија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исајне вежбе:костодијафрагмалног дис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Дозиране вежбе: статичким контракцијама захваћеног сегмен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Активне вежбе, активно-потпомогнуте и пасивне до границе бола и границе физиолошке покретљивост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2520" indent="-45252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зиционирање ортозама-сплинтови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702C-E65C-4D63-BCC8-D21C9A7453C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Хидрокинезитерапија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почиње се када је дошло до епителиз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Дејство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Чишћење опечене рег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акше скидање адхезивних заво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вид у стање ра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бољшање епителиз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Већи степен покретљивости зглобов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лакшање извођења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E65C-1C2F-4144-9CC0-189B4E90C54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Хидрокинезитерапија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838080" y="190512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Контраиндикациј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хемодинамска нестабилн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свеже графтовање регије (испод 7 дан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3. апликовани адхезивни биолошки завој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4. употреба лекова за релаксацију мишић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5. телесна темпратура испод 36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Температура топле диферентне зоне од 37⁰ до 40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 воду се додаје антисептични раствор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0480" indent="-42048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х дневно, 10-40 мин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5D9E-3596-48F9-9534-23E788C677A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Рехабилитација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сна рехабилитација је наставак ране рехабилитације и осим кинезитерапије 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физикалне терапије проводи се и едукација за АДЖ и као радна терапиј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проводи се након болничког лече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мбулантно или у специјализованим установам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јчешће се сусрећемо с </a:t>
            </a: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контрактура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Терапиј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подразумева лечење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1. контрактур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2. хипертрофичних ожиљак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3120" indent="-39312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3. лезије нерава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C1C6-6A0D-4066-BA73-7DCCAFE91D7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Tahoma"/>
              </a:rPr>
              <a:t>Физикални агенси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риомасаж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ануелна масаж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рафин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З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Ф КЈ или Тиомуказ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ИР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ласер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25160" indent="-42516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B395-154A-48BB-B12A-A42FF2AB061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ТОТАЛНЕ ЕНДОПРОТЕЗЕ КУ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Мењају се обе компоненте зглоб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1. феморалн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има главу, врат и тело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2. ацетабуларна компонента ендопротезе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садржи лежиште ацетабулума и чашиц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1AB4-F004-4036-8AB4-A4AC926F9DB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Исход рехабилитације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Повратак на посао пацијен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Промена радног мес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Трајно неспособни пацијенти за рад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20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Несамостални за АД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88D1-8FD1-44FC-B4EC-283C58ABE51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2:07:36Z</dcterms:created>
  <dc:creator>WIN98SE</dc:creator>
  <dc:description/>
  <dc:language>en-US</dc:language>
  <cp:lastModifiedBy>Windows User</cp:lastModifiedBy>
  <dcterms:modified xsi:type="dcterms:W3CDTF">2020-02-13T09:44:55Z</dcterms:modified>
  <cp:revision>947</cp:revision>
  <dc:subject/>
  <dc:title>Rehabilitacija traumatoloških bolesnika</dc:title>
</cp:coreProperties>
</file>